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10.png" ContentType="image/pn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8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4356DB5-138B-48AC-985F-9DA922999837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ABA2CC9-7F1D-4088-A4E6-DF425DF09002}" type="slidenum">
              <a:rPr b="0" lang="fr-FR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96840" y="770040"/>
            <a:ext cx="5112000" cy="38336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CF074CF-4736-4E35-83E3-7ED1B6AF5B0F}" type="slidenum">
              <a:rPr b="0" lang="fr-FR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96840" y="770040"/>
            <a:ext cx="5112000" cy="38336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BE54B38-DA5E-47D2-BA0C-BE55ADE80C37}" type="slidenum">
              <a:rPr b="0" lang="fr-FR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95400" y="770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628335F-73DA-4738-BDC9-57FF5BC4E758}" type="slidenum">
              <a:rPr b="0" lang="fr-FR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2000" cy="38336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4EFC03B-2B76-4E39-AC7B-30A69B213653}" type="slidenum">
              <a:rPr b="0" lang="fr-FR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96840" y="770040"/>
            <a:ext cx="5112000" cy="38336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FB42-9225-4D00-B72F-BD0D3BA4B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1038-46C3-445B-8B7D-E5A70C0C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0509-DAA1-4D67-A14D-D9016A46B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85FD-0950-40B0-A2C5-B9BE3F821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67F7-FF29-4891-A9A2-0C5982C23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F07C-CAE1-47B3-99E2-7820FFCC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D0F0-7008-4B1E-B620-9FD81D74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EDB5-9BA2-4608-98DD-EC2DC091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09CD-36C5-4324-A98A-78CBA5D3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4E45-A20A-4B43-B5C1-33552CFB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0F07-C992-4F04-98D0-4EBC88A3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5237-51C4-4D40-8FAA-9E45650E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C004-11C8-4EA7-9E10-D90801C2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3D9B-0123-432A-AB84-EA618BB4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5E80-3A3E-42D4-94B8-D1D3164A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B699-84B4-4E45-A341-53FBA61ED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126B-6A2E-466E-A4F8-DDC41BFF1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EA55-EE25-4E1B-9A93-86E07043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196E-A1EE-4097-AACE-372F69B7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814C-8E77-4AE3-9082-1A07F80E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F3E7-E79A-4EBD-A9F7-4B6A34C1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D8F6-5360-40AB-A9D8-BD130EBF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D172-B606-40B7-89B8-1A127068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8D30-25A2-4182-9233-F24D174A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E81E-AA2C-4BDB-9652-A760D611F5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1C31-D34D-4C7C-A3D0-25243763B724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828720" y="5592240"/>
            <a:ext cx="9144000" cy="4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d’Appui « Santé Mentale et Exclusion Sociale »</a:t>
            </a:r>
            <a:r>
              <a:rPr b="1" lang="fr-FR" sz="2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ôle Psychiatrie Précarité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884520" y="5232240"/>
            <a:ext cx="57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 Alain MERCUEL, Centre Hospitalier Sainte-Anne, Par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987560" y="1824120"/>
            <a:ext cx="5168880" cy="204372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 pluridisciplinarit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ur limit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conséquences psychiqu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 l’ex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0"/>
            <a:ext cx="91440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éminaire Fondation Santé Habit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3159360" y="454968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 décembre 2022, Par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Image 5" descr="logo-ghu-cmjn (2)"/>
          <p:cNvPicPr/>
          <p:nvPr/>
        </p:nvPicPr>
        <p:blipFill>
          <a:blip r:embed="rId1"/>
          <a:stretch/>
        </p:blipFill>
        <p:spPr>
          <a:xfrm>
            <a:off x="6256440" y="6067440"/>
            <a:ext cx="2887560" cy="7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3080" y="115920"/>
            <a:ext cx="485928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Pièges de la précarité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Espace réservé du numéro de diapositive 1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46C8-0E55-4C53-B388-656EACF4FDD4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988920" y="1827360"/>
            <a:ext cx="662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La deman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« Il demande rien… 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« C’est son choix… 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Attendre …ou intervenir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s assez… diktat de l’autonom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Trop… harcèlement d’assi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La mauvaise articul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Trop près, trop loin,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- La confusion des rôles et des fon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3080" y="115920"/>
            <a:ext cx="485928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Pièges de la précarité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Espace réservé du numéro de diapositive 1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7638-1B83-44B7-8B53-375F294FEE12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988920" y="1827360"/>
            <a:ext cx="662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La prescription du symptô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Résultat de recherche d'images pour &quot;patate chaude&quot;"/>
          <p:cNvPicPr/>
          <p:nvPr/>
        </p:nvPicPr>
        <p:blipFill>
          <a:blip r:embed="rId1"/>
          <a:stretch/>
        </p:blipFill>
        <p:spPr>
          <a:xfrm>
            <a:off x="-209520" y="-147600"/>
            <a:ext cx="10514160" cy="70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55CC-14B2-4689-95CB-EA108C294AEF}" type="slidenum">
              <a:rPr b="0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Image 5" descr=""/>
          <p:cNvPicPr/>
          <p:nvPr/>
        </p:nvPicPr>
        <p:blipFill>
          <a:blip r:embed="rId1"/>
          <a:stretch/>
        </p:blipFill>
        <p:spPr>
          <a:xfrm>
            <a:off x="1697040" y="-963720"/>
            <a:ext cx="5940360" cy="79153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6"/>
          <p:cNvSpPr/>
          <p:nvPr/>
        </p:nvSpPr>
        <p:spPr>
          <a:xfrm>
            <a:off x="1017720" y="5686560"/>
            <a:ext cx="747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ui chauffe la patat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3080" y="115920"/>
            <a:ext cx="485928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Pièges de la précarité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Espace réservé du numéro de diapositive 1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CF85-3794-4BEE-AC86-010DF7C5A7C0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988920" y="1827360"/>
            <a:ext cx="662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La prescription du symptô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La lune de miel et l’attach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isqualification des autres acte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Engagement supposé séc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Ruptur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es lie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écarité des dispositi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Territorialité non coordonné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LSM, DAC, PTSM, CP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3080" y="115920"/>
            <a:ext cx="485928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Pièges de la précarité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Espace réservé du numéro de diapositive 1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D26D-0DBD-456D-B032-11DE174DA598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971640" y="981000"/>
            <a:ext cx="662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La complexité clini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ouffrance évolu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Repli, retrait, refus,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Réactivation des maltrait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Temporalit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e la patholog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es 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morbidit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r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lc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Image 3" descr=""/>
          <p:cNvPicPr/>
          <p:nvPr/>
        </p:nvPicPr>
        <p:blipFill>
          <a:blip r:embed="rId1"/>
          <a:stretch/>
        </p:blipFill>
        <p:spPr>
          <a:xfrm>
            <a:off x="415800" y="977760"/>
            <a:ext cx="8467920" cy="470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D:\Mes Données\Documents\3    SMES CHSA\DIAPORAMAS\Photos, dessins SDF\Beau Bar.bmp"/>
          <p:cNvPicPr/>
          <p:nvPr/>
        </p:nvPicPr>
        <p:blipFill>
          <a:blip r:embed="rId1"/>
          <a:stretch/>
        </p:blipFill>
        <p:spPr>
          <a:xfrm>
            <a:off x="-252360" y="0"/>
            <a:ext cx="953748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3080" y="115920"/>
            <a:ext cx="485928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Pièges de la précarité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Espace réservé du numéro de diapositive 1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1A26-C9E3-4706-9B68-9A7E0D069F93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900000" y="982800"/>
            <a:ext cx="662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La complexité clini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ouffrance évolu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Repli, retrait, refus,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Réactivation des maltrait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Temporalit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e la patholog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es 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morbidit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terprétari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ro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965240" y="433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564920" y="333360"/>
            <a:ext cx="3940560" cy="764280"/>
          </a:xfrm>
          <a:prstGeom prst="rect">
            <a:avLst/>
          </a:prstGeom>
          <a:solidFill>
            <a:srgbClr val="008000"/>
          </a:solidFill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Comment faire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34720" y="465120"/>
            <a:ext cx="617364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ôle GHU Psychiatrie-Précarité</a:t>
            </a:r>
            <a:endParaRPr b="1" lang="en-US" sz="3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Diagramme 2" descr=""/>
          <p:cNvPicPr/>
          <p:nvPr/>
        </p:nvPicPr>
        <p:blipFill>
          <a:blip r:embed="rId1"/>
          <a:stretch/>
        </p:blipFill>
        <p:spPr>
          <a:xfrm>
            <a:off x="390600" y="622440"/>
            <a:ext cx="8540640" cy="549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CINE_exorcist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3"/>
          <p:cNvSpPr/>
          <p:nvPr/>
        </p:nvSpPr>
        <p:spPr>
          <a:xfrm>
            <a:off x="3995640" y="-1440"/>
            <a:ext cx="5040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33cc"/>
                </a:solidFill>
                <a:latin typeface="Times New Roman"/>
              </a:rPr>
              <a:t>« Aller vers… 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2107080" y="321624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SOIN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2120760" y="4245120"/>
            <a:ext cx="11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LIEN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/>
          <p:cNvSpPr/>
          <p:nvPr/>
        </p:nvSpPr>
        <p:spPr>
          <a:xfrm>
            <a:off x="522360" y="503280"/>
            <a:ext cx="2114640" cy="1081080"/>
          </a:xfrm>
          <a:prstGeom prst="flowChartAlternateProcess">
            <a:avLst/>
          </a:prstGeom>
          <a:solidFill>
            <a:srgbClr val="99cc00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Times New Roman"/>
              </a:rPr>
              <a:t>COR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297000" y="2685960"/>
            <a:ext cx="2744640" cy="1125720"/>
          </a:xfrm>
          <a:prstGeom prst="flowChartProcess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ccff66"/>
                </a:solidFill>
                <a:latin typeface="Times New Roman"/>
              </a:rPr>
              <a:t>CRE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522360" y="5049720"/>
            <a:ext cx="2293920" cy="1216080"/>
          </a:xfrm>
          <a:prstGeom prst="flowChartPreparation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66ff"/>
                </a:solidFill>
                <a:latin typeface="Times New Roman"/>
              </a:rPr>
              <a:t>SOC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3176640" y="98280"/>
            <a:ext cx="4815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1800" spc="-1" strike="noStrike" u="sng">
                <a:solidFill>
                  <a:srgbClr val="ffffff"/>
                </a:solidFill>
                <a:uFillTx/>
                <a:latin typeface="Times New Roman"/>
              </a:rPr>
              <a:t>Douloureux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(dents, arthrose,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En plainte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(justifiée, hypocondriaque,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Perdu son sens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(vue, audition, toucher,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Blessé, agressé, …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Times New Roman"/>
              </a:rPr>
              <a:t>certificats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,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3176640" y="2295360"/>
            <a:ext cx="5040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Don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(accès à la culture)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et contre don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(créa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Retour du refoulé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(créativité enfoui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Recherche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(de soi, des autres,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Cathar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3176640" y="4492800"/>
            <a:ext cx="48150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Droits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(CNI, Passeport, CMU, AME,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Assistance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(juriste, 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Times New Roman"/>
              </a:rPr>
              <a:t>avocat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, notaire,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Attributions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(RSA, AAH,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Expression aux tiers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(CEC, médias,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Hébe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7721640" y="279360"/>
            <a:ext cx="16462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00"/>
                </a:solidFill>
                <a:latin typeface="Times New Roman"/>
              </a:rPr>
              <a:t>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00"/>
                </a:solidFill>
                <a:latin typeface="Times New Roman"/>
              </a:rPr>
              <a:t>Kin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00"/>
                </a:solidFill>
                <a:latin typeface="Times New Roman"/>
              </a:rPr>
              <a:t>Spécialis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00"/>
                </a:solidFill>
                <a:latin typeface="Times New Roman"/>
              </a:rPr>
              <a:t>Infirmiè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7959600" y="2484360"/>
            <a:ext cx="16462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00"/>
                </a:solidFill>
                <a:latin typeface="Times New Roman"/>
              </a:rPr>
              <a:t>Art…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00"/>
                </a:solidFill>
                <a:latin typeface="Times New Roman"/>
              </a:rPr>
              <a:t>Ergo…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00"/>
                </a:solidFill>
                <a:latin typeface="Times New Roman"/>
              </a:rPr>
              <a:t>Psych…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00"/>
                </a:solidFill>
                <a:latin typeface="Times New Roman"/>
              </a:rPr>
              <a:t>Psychom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10"/>
          <p:cNvSpPr/>
          <p:nvPr/>
        </p:nvSpPr>
        <p:spPr>
          <a:xfrm>
            <a:off x="7497720" y="142920"/>
            <a:ext cx="223920" cy="1973160"/>
          </a:xfrm>
          <a:custGeom>
            <a:avLst/>
            <a:gdLst>
              <a:gd name="textAreaLeft" fmla="*/ 0 w 223920"/>
              <a:gd name="textAreaRight" fmla="*/ 156960 w 223920"/>
              <a:gd name="textAreaTop" fmla="*/ 82080 h 1973160"/>
              <a:gd name="textAreaBottom" fmla="*/ 1891080 h 197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11"/>
          <p:cNvSpPr/>
          <p:nvPr/>
        </p:nvSpPr>
        <p:spPr>
          <a:xfrm>
            <a:off x="7677000" y="2295360"/>
            <a:ext cx="223920" cy="2017800"/>
          </a:xfrm>
          <a:custGeom>
            <a:avLst/>
            <a:gdLst>
              <a:gd name="textAreaLeft" fmla="*/ 0 w 223920"/>
              <a:gd name="textAreaRight" fmla="*/ 156960 w 223920"/>
              <a:gd name="textAreaTop" fmla="*/ 83880 h 2017800"/>
              <a:gd name="textAreaBottom" fmla="*/ 1933920 h 201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7348680" y="4508640"/>
            <a:ext cx="179532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00"/>
                </a:solidFill>
                <a:latin typeface="Times New Roman"/>
              </a:rPr>
              <a:t>AS, PASS, P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00"/>
                </a:solidFill>
                <a:latin typeface="Times New Roman"/>
              </a:rPr>
              <a:t>Educ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00"/>
                </a:solidFill>
                <a:latin typeface="Times New Roman"/>
              </a:rPr>
              <a:t>AMP, MSP, P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00"/>
                </a:solidFill>
                <a:latin typeface="Times New Roman"/>
              </a:rPr>
              <a:t>GEM, Club House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00"/>
                </a:solidFill>
                <a:latin typeface="Times New Roman"/>
              </a:rPr>
              <a:t>Service Civiqu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00"/>
                </a:solidFill>
                <a:latin typeface="Times New Roman"/>
              </a:rPr>
              <a:t>SAV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00"/>
                </a:solidFill>
                <a:latin typeface="Times New Roman"/>
              </a:rPr>
              <a:t>SAMSAH,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13"/>
          <p:cNvSpPr/>
          <p:nvPr/>
        </p:nvSpPr>
        <p:spPr>
          <a:xfrm>
            <a:off x="7066080" y="4492800"/>
            <a:ext cx="223560" cy="2365200"/>
          </a:xfrm>
          <a:custGeom>
            <a:avLst/>
            <a:gdLst>
              <a:gd name="textAreaLeft" fmla="*/ 0 w 223560"/>
              <a:gd name="textAreaRight" fmla="*/ 156960 w 223560"/>
              <a:gd name="textAreaTop" fmla="*/ 98280 h 2365200"/>
              <a:gd name="textAreaBottom" fmla="*/ 2266920 h 236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Image 6" descr=""/>
          <p:cNvPicPr/>
          <p:nvPr/>
        </p:nvPicPr>
        <p:blipFill>
          <a:blip r:embed="rId1"/>
          <a:stretch/>
        </p:blipFill>
        <p:spPr>
          <a:xfrm>
            <a:off x="3203640" y="2637000"/>
            <a:ext cx="2392200" cy="116676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4" descr="RÃ©sultat de recherche d'images pour &quot;ecole algÃ©co&quot;"/>
          <p:cNvPicPr/>
          <p:nvPr/>
        </p:nvPicPr>
        <p:blipFill>
          <a:blip r:embed="rId2"/>
          <a:stretch/>
        </p:blipFill>
        <p:spPr>
          <a:xfrm>
            <a:off x="1332000" y="1139760"/>
            <a:ext cx="1295280" cy="739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RÃ©sultat de recherche d'images pour &quot;ecole algÃ©co&quot;"/>
          <p:cNvPicPr/>
          <p:nvPr/>
        </p:nvPicPr>
        <p:blipFill>
          <a:blip r:embed="rId3"/>
          <a:stretch/>
        </p:blipFill>
        <p:spPr>
          <a:xfrm>
            <a:off x="6156360" y="1217520"/>
            <a:ext cx="1584360" cy="660600"/>
          </a:xfrm>
          <a:prstGeom prst="rect">
            <a:avLst/>
          </a:prstGeom>
          <a:ln w="0">
            <a:noFill/>
          </a:ln>
        </p:spPr>
      </p:pic>
      <p:pic>
        <p:nvPicPr>
          <p:cNvPr id="180" name="Image 8" descr=""/>
          <p:cNvPicPr/>
          <p:nvPr/>
        </p:nvPicPr>
        <p:blipFill>
          <a:blip r:embed="rId4"/>
          <a:stretch/>
        </p:blipFill>
        <p:spPr>
          <a:xfrm>
            <a:off x="3463920" y="4653000"/>
            <a:ext cx="1871640" cy="1193760"/>
          </a:xfrm>
          <a:prstGeom prst="rect">
            <a:avLst/>
          </a:prstGeom>
          <a:ln w="0">
            <a:noFill/>
          </a:ln>
        </p:spPr>
      </p:pic>
      <p:sp>
        <p:nvSpPr>
          <p:cNvPr id="181" name="Flèche vers le bas 9"/>
          <p:cNvSpPr/>
          <p:nvPr/>
        </p:nvSpPr>
        <p:spPr>
          <a:xfrm>
            <a:off x="4219560" y="3890880"/>
            <a:ext cx="35892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Flèche vers le bas 12"/>
          <p:cNvSpPr/>
          <p:nvPr/>
        </p:nvSpPr>
        <p:spPr>
          <a:xfrm rot="8416800">
            <a:off x="2711160" y="1884240"/>
            <a:ext cx="360360" cy="64944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Flèche vers le bas 13"/>
          <p:cNvSpPr/>
          <p:nvPr/>
        </p:nvSpPr>
        <p:spPr>
          <a:xfrm rot="13522200">
            <a:off x="5555160" y="1876680"/>
            <a:ext cx="360360" cy="64764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itre 1"/>
          <p:cNvSpPr/>
          <p:nvPr/>
        </p:nvSpPr>
        <p:spPr>
          <a:xfrm>
            <a:off x="404640" y="1986120"/>
            <a:ext cx="253080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Rencontres 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seignants</a:t>
            </a:r>
            <a:r>
              <a:rPr b="0" lang="fr-FR" sz="20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P, M, 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Rien &lt; 6 ans, handic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itre 1"/>
          <p:cNvSpPr/>
          <p:nvPr/>
        </p:nvSpPr>
        <p:spPr>
          <a:xfrm>
            <a:off x="5613480" y="3803760"/>
            <a:ext cx="3351240" cy="26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Rencont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Humanitaires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édecins</a:t>
            </a:r>
            <a:r>
              <a:rPr b="0" lang="fr-FR" sz="20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Pédiat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Gynécos </a:t>
            </a:r>
            <a:r>
              <a:rPr b="0" lang="fr-FR" sz="16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50 Grossesses, 1/3 PTS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Odon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Kinés bénévo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Ergothérapeu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itre 1"/>
          <p:cNvSpPr/>
          <p:nvPr/>
        </p:nvSpPr>
        <p:spPr>
          <a:xfrm>
            <a:off x="6127920" y="1924200"/>
            <a:ext cx="26920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Rencont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eurs sociau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Animate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3707280" y="595944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R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1"/>
          <p:cNvSpPr/>
          <p:nvPr/>
        </p:nvSpPr>
        <p:spPr>
          <a:xfrm>
            <a:off x="6256800" y="2959200"/>
            <a:ext cx="15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O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1"/>
          <p:cNvSpPr/>
          <p:nvPr/>
        </p:nvSpPr>
        <p:spPr>
          <a:xfrm>
            <a:off x="440280" y="334152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3"/>
          <p:cNvSpPr/>
          <p:nvPr/>
        </p:nvSpPr>
        <p:spPr>
          <a:xfrm>
            <a:off x="898560" y="1949400"/>
            <a:ext cx="7273800" cy="642600"/>
          </a:xfrm>
          <a:prstGeom prst="rect">
            <a:avLst/>
          </a:prstGeom>
          <a:noFill/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Times New Roman"/>
              </a:rPr>
              <a:t>UNE AIDE CO-CONSTRUI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3"/>
          <p:cNvSpPr/>
          <p:nvPr/>
        </p:nvSpPr>
        <p:spPr>
          <a:xfrm>
            <a:off x="900000" y="1890720"/>
            <a:ext cx="7775640" cy="642600"/>
          </a:xfrm>
          <a:prstGeom prst="rect">
            <a:avLst/>
          </a:prstGeom>
          <a:noFill/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Times New Roman"/>
              </a:rPr>
              <a:t>UNE AIDE CO-ACCOMPAGN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611280" y="1890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Un toit SEUL </a:t>
            </a: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ne suffit p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539640" y="2276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Un accompagnement social SEU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ne suffit p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611280" y="5445000"/>
            <a:ext cx="82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Un suivi médical SEU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ne suffit p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826920" y="765000"/>
            <a:ext cx="259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Militantis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des certitud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extrê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5" descr="maloy"/>
          <p:cNvPicPr/>
          <p:nvPr/>
        </p:nvPicPr>
        <p:blipFill>
          <a:blip r:embed="rId1"/>
          <a:stretch/>
        </p:blipFill>
        <p:spPr>
          <a:xfrm>
            <a:off x="179280" y="2971800"/>
            <a:ext cx="4105440" cy="362592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6"/>
          <p:cNvSpPr/>
          <p:nvPr/>
        </p:nvSpPr>
        <p:spPr>
          <a:xfrm flipV="1">
            <a:off x="250920" y="6021360"/>
            <a:ext cx="2952720" cy="432000"/>
          </a:xfrm>
          <a:prstGeom prst="wedgeRectCallout">
            <a:avLst>
              <a:gd name="adj1" fmla="val -162"/>
              <a:gd name="adj2" fmla="val 119851"/>
            </a:avLst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250920" y="59500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6ffff"/>
                </a:solidFill>
                <a:latin typeface="Times New Roman"/>
              </a:rPr>
              <a:t>Tous à l’host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826920" y="765000"/>
            <a:ext cx="259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Militantis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des certitud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extrê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6084720" y="692280"/>
            <a:ext cx="259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Neutralit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des éthiqu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extrê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4" descr="!mono2"/>
          <p:cNvPicPr/>
          <p:nvPr/>
        </p:nvPicPr>
        <p:blipFill>
          <a:blip r:embed="rId1"/>
          <a:stretch/>
        </p:blipFill>
        <p:spPr>
          <a:xfrm>
            <a:off x="4788000" y="2951280"/>
            <a:ext cx="4176720" cy="3646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maloy"/>
          <p:cNvPicPr/>
          <p:nvPr/>
        </p:nvPicPr>
        <p:blipFill>
          <a:blip r:embed="rId2"/>
          <a:stretch/>
        </p:blipFill>
        <p:spPr>
          <a:xfrm>
            <a:off x="179280" y="2971800"/>
            <a:ext cx="4105440" cy="362592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6"/>
          <p:cNvSpPr/>
          <p:nvPr/>
        </p:nvSpPr>
        <p:spPr>
          <a:xfrm flipV="1">
            <a:off x="250920" y="6021360"/>
            <a:ext cx="2952720" cy="432000"/>
          </a:xfrm>
          <a:prstGeom prst="wedgeRectCallout">
            <a:avLst>
              <a:gd name="adj1" fmla="val -162"/>
              <a:gd name="adj2" fmla="val 119851"/>
            </a:avLst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50920" y="59500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6ffff"/>
                </a:solidFill>
                <a:latin typeface="Times New Roman"/>
              </a:rPr>
              <a:t>Tous à l’host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5327640" y="2276640"/>
            <a:ext cx="3816360" cy="863280"/>
          </a:xfrm>
          <a:prstGeom prst="cloudCallout">
            <a:avLst>
              <a:gd name="adj1" fmla="val -13685"/>
              <a:gd name="adj2" fmla="val 81615"/>
            </a:avLst>
          </a:prstGeom>
          <a:noFill/>
          <a:ln w="1908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5651640" y="238284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6ffff"/>
                </a:solidFill>
                <a:latin typeface="Times New Roman"/>
              </a:rPr>
              <a:t>C’est leur choix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Freeform 11"/>
          <p:cNvSpPr/>
          <p:nvPr/>
        </p:nvSpPr>
        <p:spPr>
          <a:xfrm>
            <a:off x="4390920" y="1413000"/>
            <a:ext cx="360360" cy="4464000"/>
          </a:xfrm>
          <a:custGeom>
            <a:avLst/>
            <a:gdLst/>
            <a:ahLst/>
            <a:rect l="l" t="t" r="r" b="b"/>
            <a:pathLst>
              <a:path w="128" h="2575">
                <a:moveTo>
                  <a:pt x="21" y="0"/>
                </a:moveTo>
                <a:cubicBezTo>
                  <a:pt x="15" y="17"/>
                  <a:pt x="9" y="35"/>
                  <a:pt x="3" y="52"/>
                </a:cubicBezTo>
                <a:cubicBezTo>
                  <a:pt x="0" y="62"/>
                  <a:pt x="24" y="183"/>
                  <a:pt x="38" y="201"/>
                </a:cubicBezTo>
                <a:cubicBezTo>
                  <a:pt x="45" y="209"/>
                  <a:pt x="55" y="212"/>
                  <a:pt x="64" y="218"/>
                </a:cubicBezTo>
                <a:cubicBezTo>
                  <a:pt x="82" y="245"/>
                  <a:pt x="90" y="270"/>
                  <a:pt x="108" y="297"/>
                </a:cubicBezTo>
                <a:cubicBezTo>
                  <a:pt x="128" y="374"/>
                  <a:pt x="104" y="490"/>
                  <a:pt x="47" y="550"/>
                </a:cubicBezTo>
                <a:cubicBezTo>
                  <a:pt x="29" y="603"/>
                  <a:pt x="24" y="665"/>
                  <a:pt x="64" y="707"/>
                </a:cubicBezTo>
                <a:cubicBezTo>
                  <a:pt x="73" y="734"/>
                  <a:pt x="97" y="775"/>
                  <a:pt x="117" y="794"/>
                </a:cubicBezTo>
                <a:cubicBezTo>
                  <a:pt x="127" y="847"/>
                  <a:pt x="123" y="902"/>
                  <a:pt x="99" y="951"/>
                </a:cubicBezTo>
                <a:cubicBezTo>
                  <a:pt x="94" y="960"/>
                  <a:pt x="86" y="968"/>
                  <a:pt x="82" y="977"/>
                </a:cubicBezTo>
                <a:cubicBezTo>
                  <a:pt x="74" y="994"/>
                  <a:pt x="64" y="1030"/>
                  <a:pt x="64" y="1030"/>
                </a:cubicBezTo>
                <a:cubicBezTo>
                  <a:pt x="70" y="1103"/>
                  <a:pt x="76" y="1163"/>
                  <a:pt x="99" y="1231"/>
                </a:cubicBezTo>
                <a:cubicBezTo>
                  <a:pt x="92" y="1323"/>
                  <a:pt x="113" y="1353"/>
                  <a:pt x="47" y="1396"/>
                </a:cubicBezTo>
                <a:cubicBezTo>
                  <a:pt x="33" y="1437"/>
                  <a:pt x="33" y="1477"/>
                  <a:pt x="64" y="1510"/>
                </a:cubicBezTo>
                <a:cubicBezTo>
                  <a:pt x="87" y="1708"/>
                  <a:pt x="86" y="1614"/>
                  <a:pt x="73" y="1789"/>
                </a:cubicBezTo>
                <a:cubicBezTo>
                  <a:pt x="78" y="1869"/>
                  <a:pt x="103" y="1956"/>
                  <a:pt x="55" y="2025"/>
                </a:cubicBezTo>
                <a:cubicBezTo>
                  <a:pt x="52" y="2039"/>
                  <a:pt x="53" y="2055"/>
                  <a:pt x="47" y="2068"/>
                </a:cubicBezTo>
                <a:cubicBezTo>
                  <a:pt x="44" y="2076"/>
                  <a:pt x="29" y="2078"/>
                  <a:pt x="29" y="2086"/>
                </a:cubicBezTo>
                <a:cubicBezTo>
                  <a:pt x="24" y="2183"/>
                  <a:pt x="53" y="2225"/>
                  <a:pt x="55" y="2304"/>
                </a:cubicBezTo>
                <a:cubicBezTo>
                  <a:pt x="57" y="2394"/>
                  <a:pt x="55" y="2485"/>
                  <a:pt x="55" y="2575"/>
                </a:cubicBezTo>
              </a:path>
            </a:pathLst>
          </a:custGeom>
          <a:noFill/>
          <a:ln w="76320">
            <a:solidFill>
              <a:srgbClr val="00ff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912960" y="4437000"/>
            <a:ext cx="7316640" cy="180036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Aider la person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à retrouver un état compé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pour faire SON cho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10" descr="menottes"/>
          <p:cNvPicPr/>
          <p:nvPr/>
        </p:nvPicPr>
        <p:blipFill>
          <a:blip r:embed="rId1"/>
          <a:stretch/>
        </p:blipFill>
        <p:spPr>
          <a:xfrm>
            <a:off x="1160640" y="1711440"/>
            <a:ext cx="1568160" cy="842760"/>
          </a:xfrm>
          <a:prstGeom prst="rect">
            <a:avLst/>
          </a:prstGeom>
          <a:ln w="0">
            <a:noFill/>
          </a:ln>
        </p:spPr>
      </p:pic>
      <p:sp>
        <p:nvSpPr>
          <p:cNvPr id="210" name="Freeform 12"/>
          <p:cNvSpPr/>
          <p:nvPr/>
        </p:nvSpPr>
        <p:spPr>
          <a:xfrm>
            <a:off x="5961240" y="1546200"/>
            <a:ext cx="1779480" cy="1295280"/>
          </a:xfrm>
          <a:custGeom>
            <a:avLst/>
            <a:gdLst/>
            <a:ahLst/>
            <a:rect l="l" t="t" r="r" b="b"/>
            <a:pathLst>
              <a:path w="1121" h="816">
                <a:moveTo>
                  <a:pt x="337" y="36"/>
                </a:moveTo>
                <a:cubicBezTo>
                  <a:pt x="257" y="89"/>
                  <a:pt x="305" y="69"/>
                  <a:pt x="186" y="80"/>
                </a:cubicBezTo>
                <a:cubicBezTo>
                  <a:pt x="163" y="86"/>
                  <a:pt x="139" y="92"/>
                  <a:pt x="116" y="98"/>
                </a:cubicBezTo>
                <a:cubicBezTo>
                  <a:pt x="104" y="101"/>
                  <a:pt x="80" y="107"/>
                  <a:pt x="80" y="107"/>
                </a:cubicBezTo>
                <a:cubicBezTo>
                  <a:pt x="68" y="125"/>
                  <a:pt x="57" y="142"/>
                  <a:pt x="45" y="160"/>
                </a:cubicBezTo>
                <a:cubicBezTo>
                  <a:pt x="39" y="169"/>
                  <a:pt x="27" y="187"/>
                  <a:pt x="27" y="187"/>
                </a:cubicBezTo>
                <a:cubicBezTo>
                  <a:pt x="34" y="228"/>
                  <a:pt x="23" y="243"/>
                  <a:pt x="62" y="257"/>
                </a:cubicBezTo>
                <a:cubicBezTo>
                  <a:pt x="85" y="265"/>
                  <a:pt x="109" y="269"/>
                  <a:pt x="133" y="275"/>
                </a:cubicBezTo>
                <a:cubicBezTo>
                  <a:pt x="145" y="278"/>
                  <a:pt x="169" y="284"/>
                  <a:pt x="169" y="284"/>
                </a:cubicBezTo>
                <a:cubicBezTo>
                  <a:pt x="196" y="327"/>
                  <a:pt x="189" y="301"/>
                  <a:pt x="169" y="364"/>
                </a:cubicBezTo>
                <a:cubicBezTo>
                  <a:pt x="163" y="382"/>
                  <a:pt x="116" y="381"/>
                  <a:pt x="116" y="381"/>
                </a:cubicBezTo>
                <a:cubicBezTo>
                  <a:pt x="63" y="461"/>
                  <a:pt x="135" y="365"/>
                  <a:pt x="71" y="417"/>
                </a:cubicBezTo>
                <a:cubicBezTo>
                  <a:pt x="63" y="424"/>
                  <a:pt x="62" y="436"/>
                  <a:pt x="54" y="444"/>
                </a:cubicBezTo>
                <a:cubicBezTo>
                  <a:pt x="46" y="452"/>
                  <a:pt x="36" y="455"/>
                  <a:pt x="27" y="461"/>
                </a:cubicBezTo>
                <a:cubicBezTo>
                  <a:pt x="12" y="506"/>
                  <a:pt x="0" y="541"/>
                  <a:pt x="54" y="559"/>
                </a:cubicBezTo>
                <a:cubicBezTo>
                  <a:pt x="80" y="556"/>
                  <a:pt x="107" y="555"/>
                  <a:pt x="133" y="550"/>
                </a:cubicBezTo>
                <a:cubicBezTo>
                  <a:pt x="151" y="546"/>
                  <a:pt x="168" y="538"/>
                  <a:pt x="186" y="532"/>
                </a:cubicBezTo>
                <a:cubicBezTo>
                  <a:pt x="195" y="529"/>
                  <a:pt x="213" y="523"/>
                  <a:pt x="213" y="523"/>
                </a:cubicBezTo>
                <a:cubicBezTo>
                  <a:pt x="225" y="526"/>
                  <a:pt x="244" y="521"/>
                  <a:pt x="249" y="532"/>
                </a:cubicBezTo>
                <a:cubicBezTo>
                  <a:pt x="256" y="548"/>
                  <a:pt x="226" y="626"/>
                  <a:pt x="222" y="638"/>
                </a:cubicBezTo>
                <a:cubicBezTo>
                  <a:pt x="219" y="647"/>
                  <a:pt x="213" y="665"/>
                  <a:pt x="213" y="665"/>
                </a:cubicBezTo>
                <a:cubicBezTo>
                  <a:pt x="229" y="712"/>
                  <a:pt x="239" y="703"/>
                  <a:pt x="284" y="692"/>
                </a:cubicBezTo>
                <a:cubicBezTo>
                  <a:pt x="321" y="655"/>
                  <a:pt x="347" y="608"/>
                  <a:pt x="364" y="559"/>
                </a:cubicBezTo>
                <a:cubicBezTo>
                  <a:pt x="348" y="495"/>
                  <a:pt x="360" y="537"/>
                  <a:pt x="328" y="444"/>
                </a:cubicBezTo>
                <a:cubicBezTo>
                  <a:pt x="325" y="435"/>
                  <a:pt x="319" y="417"/>
                  <a:pt x="319" y="417"/>
                </a:cubicBezTo>
                <a:cubicBezTo>
                  <a:pt x="338" y="326"/>
                  <a:pt x="358" y="278"/>
                  <a:pt x="452" y="249"/>
                </a:cubicBezTo>
                <a:cubicBezTo>
                  <a:pt x="519" y="291"/>
                  <a:pt x="487" y="378"/>
                  <a:pt x="426" y="399"/>
                </a:cubicBezTo>
                <a:cubicBezTo>
                  <a:pt x="398" y="441"/>
                  <a:pt x="384" y="450"/>
                  <a:pt x="417" y="523"/>
                </a:cubicBezTo>
                <a:cubicBezTo>
                  <a:pt x="424" y="537"/>
                  <a:pt x="446" y="535"/>
                  <a:pt x="461" y="541"/>
                </a:cubicBezTo>
                <a:cubicBezTo>
                  <a:pt x="468" y="548"/>
                  <a:pt x="504" y="580"/>
                  <a:pt x="505" y="594"/>
                </a:cubicBezTo>
                <a:cubicBezTo>
                  <a:pt x="510" y="647"/>
                  <a:pt x="485" y="665"/>
                  <a:pt x="470" y="709"/>
                </a:cubicBezTo>
                <a:cubicBezTo>
                  <a:pt x="484" y="766"/>
                  <a:pt x="491" y="746"/>
                  <a:pt x="541" y="763"/>
                </a:cubicBezTo>
                <a:cubicBezTo>
                  <a:pt x="605" y="747"/>
                  <a:pt x="671" y="744"/>
                  <a:pt x="736" y="736"/>
                </a:cubicBezTo>
                <a:cubicBezTo>
                  <a:pt x="757" y="799"/>
                  <a:pt x="744" y="773"/>
                  <a:pt x="771" y="816"/>
                </a:cubicBezTo>
                <a:cubicBezTo>
                  <a:pt x="795" y="811"/>
                  <a:pt x="825" y="816"/>
                  <a:pt x="842" y="798"/>
                </a:cubicBezTo>
                <a:cubicBezTo>
                  <a:pt x="849" y="791"/>
                  <a:pt x="849" y="780"/>
                  <a:pt x="851" y="771"/>
                </a:cubicBezTo>
                <a:cubicBezTo>
                  <a:pt x="858" y="736"/>
                  <a:pt x="858" y="699"/>
                  <a:pt x="869" y="665"/>
                </a:cubicBezTo>
                <a:cubicBezTo>
                  <a:pt x="879" y="636"/>
                  <a:pt x="894" y="614"/>
                  <a:pt x="904" y="585"/>
                </a:cubicBezTo>
                <a:cubicBezTo>
                  <a:pt x="901" y="576"/>
                  <a:pt x="903" y="563"/>
                  <a:pt x="895" y="559"/>
                </a:cubicBezTo>
                <a:cubicBezTo>
                  <a:pt x="887" y="555"/>
                  <a:pt x="877" y="564"/>
                  <a:pt x="869" y="568"/>
                </a:cubicBezTo>
                <a:cubicBezTo>
                  <a:pt x="851" y="578"/>
                  <a:pt x="816" y="603"/>
                  <a:pt x="816" y="603"/>
                </a:cubicBezTo>
                <a:cubicBezTo>
                  <a:pt x="768" y="593"/>
                  <a:pt x="752" y="588"/>
                  <a:pt x="736" y="541"/>
                </a:cubicBezTo>
                <a:cubicBezTo>
                  <a:pt x="745" y="463"/>
                  <a:pt x="728" y="434"/>
                  <a:pt x="807" y="452"/>
                </a:cubicBezTo>
                <a:cubicBezTo>
                  <a:pt x="886" y="444"/>
                  <a:pt x="891" y="448"/>
                  <a:pt x="940" y="399"/>
                </a:cubicBezTo>
                <a:cubicBezTo>
                  <a:pt x="937" y="378"/>
                  <a:pt x="940" y="356"/>
                  <a:pt x="931" y="337"/>
                </a:cubicBezTo>
                <a:cubicBezTo>
                  <a:pt x="920" y="316"/>
                  <a:pt x="878" y="336"/>
                  <a:pt x="869" y="337"/>
                </a:cubicBezTo>
                <a:cubicBezTo>
                  <a:pt x="839" y="341"/>
                  <a:pt x="810" y="343"/>
                  <a:pt x="780" y="346"/>
                </a:cubicBezTo>
                <a:cubicBezTo>
                  <a:pt x="777" y="347"/>
                  <a:pt x="715" y="368"/>
                  <a:pt x="700" y="373"/>
                </a:cubicBezTo>
                <a:cubicBezTo>
                  <a:pt x="691" y="376"/>
                  <a:pt x="674" y="381"/>
                  <a:pt x="674" y="381"/>
                </a:cubicBezTo>
                <a:cubicBezTo>
                  <a:pt x="655" y="439"/>
                  <a:pt x="710" y="560"/>
                  <a:pt x="630" y="532"/>
                </a:cubicBezTo>
                <a:cubicBezTo>
                  <a:pt x="618" y="514"/>
                  <a:pt x="593" y="500"/>
                  <a:pt x="594" y="479"/>
                </a:cubicBezTo>
                <a:cubicBezTo>
                  <a:pt x="597" y="432"/>
                  <a:pt x="598" y="384"/>
                  <a:pt x="603" y="337"/>
                </a:cubicBezTo>
                <a:cubicBezTo>
                  <a:pt x="607" y="301"/>
                  <a:pt x="655" y="259"/>
                  <a:pt x="692" y="257"/>
                </a:cubicBezTo>
                <a:cubicBezTo>
                  <a:pt x="816" y="252"/>
                  <a:pt x="940" y="252"/>
                  <a:pt x="1064" y="249"/>
                </a:cubicBezTo>
                <a:cubicBezTo>
                  <a:pt x="1121" y="229"/>
                  <a:pt x="1097" y="199"/>
                  <a:pt x="1073" y="160"/>
                </a:cubicBezTo>
                <a:cubicBezTo>
                  <a:pt x="1039" y="169"/>
                  <a:pt x="1017" y="185"/>
                  <a:pt x="984" y="195"/>
                </a:cubicBezTo>
                <a:cubicBezTo>
                  <a:pt x="954" y="192"/>
                  <a:pt x="923" y="197"/>
                  <a:pt x="895" y="187"/>
                </a:cubicBezTo>
                <a:cubicBezTo>
                  <a:pt x="879" y="181"/>
                  <a:pt x="889" y="139"/>
                  <a:pt x="895" y="133"/>
                </a:cubicBezTo>
                <a:cubicBezTo>
                  <a:pt x="902" y="126"/>
                  <a:pt x="913" y="128"/>
                  <a:pt x="922" y="125"/>
                </a:cubicBezTo>
                <a:cubicBezTo>
                  <a:pt x="925" y="113"/>
                  <a:pt x="926" y="100"/>
                  <a:pt x="931" y="89"/>
                </a:cubicBezTo>
                <a:cubicBezTo>
                  <a:pt x="940" y="70"/>
                  <a:pt x="966" y="36"/>
                  <a:pt x="966" y="36"/>
                </a:cubicBezTo>
                <a:cubicBezTo>
                  <a:pt x="957" y="33"/>
                  <a:pt x="949" y="26"/>
                  <a:pt x="940" y="27"/>
                </a:cubicBezTo>
                <a:cubicBezTo>
                  <a:pt x="921" y="29"/>
                  <a:pt x="906" y="43"/>
                  <a:pt x="887" y="45"/>
                </a:cubicBezTo>
                <a:cubicBezTo>
                  <a:pt x="863" y="48"/>
                  <a:pt x="840" y="51"/>
                  <a:pt x="816" y="54"/>
                </a:cubicBezTo>
                <a:cubicBezTo>
                  <a:pt x="789" y="93"/>
                  <a:pt x="763" y="120"/>
                  <a:pt x="718" y="133"/>
                </a:cubicBezTo>
                <a:cubicBezTo>
                  <a:pt x="652" y="118"/>
                  <a:pt x="662" y="94"/>
                  <a:pt x="630" y="45"/>
                </a:cubicBezTo>
                <a:cubicBezTo>
                  <a:pt x="577" y="63"/>
                  <a:pt x="536" y="84"/>
                  <a:pt x="497" y="125"/>
                </a:cubicBezTo>
                <a:cubicBezTo>
                  <a:pt x="488" y="122"/>
                  <a:pt x="476" y="124"/>
                  <a:pt x="470" y="116"/>
                </a:cubicBezTo>
                <a:cubicBezTo>
                  <a:pt x="459" y="101"/>
                  <a:pt x="458" y="80"/>
                  <a:pt x="452" y="62"/>
                </a:cubicBezTo>
                <a:cubicBezTo>
                  <a:pt x="449" y="53"/>
                  <a:pt x="451" y="41"/>
                  <a:pt x="443" y="36"/>
                </a:cubicBezTo>
                <a:cubicBezTo>
                  <a:pt x="425" y="24"/>
                  <a:pt x="390" y="0"/>
                  <a:pt x="390" y="0"/>
                </a:cubicBezTo>
                <a:cubicBezTo>
                  <a:pt x="372" y="6"/>
                  <a:pt x="337" y="12"/>
                  <a:pt x="337" y="36"/>
                </a:cubicBezTo>
                <a:close/>
              </a:path>
            </a:pathLst>
          </a:custGeom>
          <a:noFill/>
          <a:ln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ZoneTexte 4"/>
          <p:cNvSpPr/>
          <p:nvPr/>
        </p:nvSpPr>
        <p:spPr>
          <a:xfrm>
            <a:off x="5508720" y="3121200"/>
            <a:ext cx="287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en en sécurité et autonom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ZoneTexte 5"/>
          <p:cNvSpPr/>
          <p:nvPr/>
        </p:nvSpPr>
        <p:spPr>
          <a:xfrm>
            <a:off x="890640" y="3149640"/>
            <a:ext cx="287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en de sécurit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Image 1" descr=""/>
          <p:cNvPicPr/>
          <p:nvPr/>
        </p:nvPicPr>
        <p:blipFill>
          <a:blip r:embed="rId1"/>
          <a:stretch/>
        </p:blipFill>
        <p:spPr>
          <a:xfrm>
            <a:off x="2268360" y="1197000"/>
            <a:ext cx="4815000" cy="4711680"/>
          </a:xfrm>
          <a:prstGeom prst="rect">
            <a:avLst/>
          </a:prstGeom>
          <a:ln w="0">
            <a:noFill/>
          </a:ln>
        </p:spPr>
      </p:pic>
      <p:pic>
        <p:nvPicPr>
          <p:cNvPr id="214" name="Image 3" descr=""/>
          <p:cNvPicPr/>
          <p:nvPr/>
        </p:nvPicPr>
        <p:blipFill>
          <a:blip r:embed="rId2"/>
          <a:stretch/>
        </p:blipFill>
        <p:spPr>
          <a:xfrm>
            <a:off x="2268360" y="1403280"/>
            <a:ext cx="4764240" cy="42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91840" y="158760"/>
            <a:ext cx="7940520" cy="1038240"/>
          </a:xfrm>
          <a:prstGeom prst="rect">
            <a:avLst/>
          </a:prstGeom>
          <a:noFill/>
          <a:ln w="57240">
            <a:solidFill>
              <a:srgbClr val="66ff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FACTEURS DE RISQUES DE PRECARITE ET D’EXCLUSION 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( Statistiques, pop.gén., … )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Espace réservé du numéro de diapositive 1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1B00-8A45-4E11-B1B8-8544082F5FC2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11280" y="1484280"/>
            <a:ext cx="8232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histoire infantile perturbée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faible niveau d'acquisitions scola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antécédents psychiatriques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consommation d’alcool et toxiques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difficultés sociales préco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slumdog460"/>
          <p:cNvPicPr/>
          <p:nvPr/>
        </p:nvPicPr>
        <p:blipFill>
          <a:blip r:embed="rId1"/>
          <a:stretch/>
        </p:blipFill>
        <p:spPr>
          <a:xfrm>
            <a:off x="4557600" y="3954600"/>
            <a:ext cx="4281480" cy="25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Humour"/>
          <p:cNvPicPr/>
          <p:nvPr/>
        </p:nvPicPr>
        <p:blipFill>
          <a:blip r:embed="rId1"/>
          <a:stretch/>
        </p:blipFill>
        <p:spPr>
          <a:xfrm>
            <a:off x="468360" y="0"/>
            <a:ext cx="8351640" cy="68245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3"/>
          <p:cNvSpPr/>
          <p:nvPr/>
        </p:nvSpPr>
        <p:spPr>
          <a:xfrm>
            <a:off x="1116000" y="2205000"/>
            <a:ext cx="1943280" cy="129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WordArt 4"/>
          <p:cNvSpPr txBox="1"/>
          <p:nvPr/>
        </p:nvSpPr>
        <p:spPr>
          <a:xfrm>
            <a:off x="3276720" y="5373720"/>
            <a:ext cx="21589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66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MES</a:t>
            </a:r>
            <a:endParaRPr b="0" lang="en-US" sz="1800" spc="1" strike="noStrike">
              <a:ln w="28440">
                <a:solidFill>
                  <a:srgbClr val="ffff66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AutoShape 5"/>
          <p:cNvSpPr/>
          <p:nvPr/>
        </p:nvSpPr>
        <p:spPr>
          <a:xfrm rot="286800">
            <a:off x="5435640" y="1052640"/>
            <a:ext cx="2808360" cy="2016000"/>
          </a:xfrm>
          <a:prstGeom prst="cloudCallout">
            <a:avLst>
              <a:gd name="adj1" fmla="val -63060"/>
              <a:gd name="adj2" fmla="val 11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5797800" y="1628640"/>
            <a:ext cx="220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Sourion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Tout va bien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611280" y="549360"/>
            <a:ext cx="770400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Evènements de vi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26 %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ont été plac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30 %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ont fugu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&gt;25 %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suivi par un juge avant 18 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45 %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nfrontés violence intra famili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25 %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violences psychologiques ou mor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19 %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violences sexuel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8 %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vécu en zone de guerre ou de confl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25 %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arents avec difficultés matériel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Espace réservé du numéro de diapositive 1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E0B5-EB82-4A49-A547-E8DC755C42B4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91840" y="158760"/>
            <a:ext cx="7940520" cy="1038240"/>
          </a:xfrm>
          <a:prstGeom prst="rect">
            <a:avLst/>
          </a:prstGeom>
          <a:noFill/>
          <a:ln w="57240">
            <a:solidFill>
              <a:srgbClr val="66ff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FACTEURS DE RISQUES DE PRECARITE ET D’EXCLUSION 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( Statistiques, pop.gén., … )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Espace réservé du numéro de diapositive 1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B41C-F66C-4CF3-B0A0-81C567DBA4C3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611280" y="1484280"/>
            <a:ext cx="82328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histoire infantile perturbée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faible niveau d'acquisitions scola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antécédents psychiatriques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consommation d’alcool et toxiques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difficultés sociales préco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ffff"/>
                </a:solidFill>
                <a:latin typeface="Times New Roman"/>
              </a:rPr>
              <a:t>mauvaise utilisation des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1840" y="230040"/>
            <a:ext cx="794052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FACTEURS DE RISQUES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Espace réservé du numéro de diapositive 1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7913-0118-434F-9C82-C49203F865F8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682560" y="198612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- mauvaise UTILISATION des services ou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84360" y="3357720"/>
            <a:ext cx="74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- mauvaise OFFRE des service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3080" y="115920"/>
            <a:ext cx="485928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Pièges de la précarité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Espace réservé du numéro de diapositive 1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2E77-9C19-4D9D-AAA9-AA3EBC702205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042920" y="96048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6ffff"/>
                </a:solidFill>
                <a:latin typeface="Times New Roman"/>
              </a:rPr>
              <a:t>Les structures (se) sont-elles adaptée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611280" y="1844640"/>
            <a:ext cx="662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Les dog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aricature, amalgame, généralisation, ..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La mauvaise articul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Trop près, trop loin,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Le « partenariat » non réciproqu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ais que fait la Po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ais que fait le Secteur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- Le contexte déclinologique actu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« C’était mieux avant… 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3080" y="115920"/>
            <a:ext cx="485928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Pièges de la précarité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Espace réservé du numéro de diapositive 1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4487-314E-4883-9DAD-2EB5B5C02AB3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988920" y="1827360"/>
            <a:ext cx="66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La deman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« Il demande rien… 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« C’est son choix… 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Attendre …ou intervenir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s assez… diktat de l’autonom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Trop… harcèlement d’assi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4"/>
          <p:cNvSpPr/>
          <p:nvPr/>
        </p:nvSpPr>
        <p:spPr>
          <a:xfrm>
            <a:off x="4572000" y="2205000"/>
            <a:ext cx="4500720" cy="131292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Comic Sans MS"/>
              </a:rPr>
              <a:t>ICI P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Comic Sans MS"/>
              </a:rPr>
              <a:t>DE DEMANDE !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Espace réservé du numéro de diapositive 1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4DA4-1155-42D8-A547-9FDA84D17A70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05:30:22Z</dcterms:created>
  <dc:creator>mercuel</dc:creator>
  <dc:description/>
  <dc:language>en-US</dc:language>
  <cp:lastModifiedBy>MERCUEL Alain</cp:lastModifiedBy>
  <dcterms:modified xsi:type="dcterms:W3CDTF">2022-12-20T15:14:10Z</dcterms:modified>
  <cp:revision>115</cp:revision>
  <dc:subject/>
  <dc:title>Diapositive 1</dc:title>
</cp:coreProperties>
</file>